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0E2F-CF71-4A0A-8B26-079C52D0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DBD1-436F-464E-9F61-B01DAB25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120B-36F4-495D-90AA-DD78F09A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ABC-431D-4B3D-BC9B-4AEABA37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6CD1-4071-4225-8C96-8A64E80E3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851E-1B20-4973-BC03-AA3A97E8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50D3-4096-47BF-920E-18C51EFE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2455-1772-4E56-B3AB-3953D884D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9BEA-D365-4273-8DC8-A2B31770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8ACF-159D-4D9D-AC08-035B1A05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7AA2-CA2E-4606-8281-EEF86EE2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25F5-56BE-4BF7-BB2A-82663539E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1BF2-615D-42D0-B159-C8D6E3C3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2397-99EE-42E8-AAEE-3CCFFB4C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24C7-1E14-4AF3-A757-A8800D61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3C55C-BC8D-47AC-9456-8220F6BA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9369-F4CF-48FC-9C0D-D4552FB4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EAB-DD66-48CD-BED4-821AA866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C2D-EAE9-4332-8143-39E07DCC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9B6-B0BD-4873-92AF-A86BE086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41E0-3771-4DD7-B3A7-41D921CA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DC5-D2FE-4C2B-92FF-7B99A5C4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9EA3-ABE8-47E9-9C1D-16F725FA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39EB-8541-4B7C-8AAF-763E6E0C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9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8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2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2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25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27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28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9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30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34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5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6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7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8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9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40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41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42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43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44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E76E-F675-42B3-9458-06E464067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50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4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20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1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2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23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8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9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0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1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2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3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4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35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36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45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46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43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C50A-29D9-42D0-93EF-09192EFCD9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6"/>
          <p:cNvSpPr/>
          <p:nvPr/>
        </p:nvSpPr>
        <p:spPr>
          <a:xfrm>
            <a:off x="838080" y="228600"/>
            <a:ext cx="72392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mmodore 64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elnet BBS Serv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1295280" y="5181480"/>
            <a:ext cx="70106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if Bloomquist – Toronto, Cana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WRAP Expo – Lombard, IL, USA    October 11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Object 8"/>
          <p:cNvGraphicFramePr/>
          <p:nvPr/>
        </p:nvGraphicFramePr>
        <p:xfrm>
          <a:off x="2590920" y="1981080"/>
          <a:ext cx="3429000" cy="322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81080"/>
                    <a:ext cx="3429000" cy="322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wnload server application+sourc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e.ica.net/~leifb/bbs/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BS Lists, hardware plans, etc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petscii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or More Inform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4382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762120" y="55616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hank you!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verview and Go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dore 64 BBS that anyone on the Internet can “Telnet” 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long distance char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eed for a second phon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pecial software on C64 sid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xisting BBS pro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8"/>
          <p:cNvSpPr/>
          <p:nvPr/>
        </p:nvSpPr>
        <p:spPr>
          <a:xfrm>
            <a:off x="4343400" y="3048120"/>
            <a:ext cx="1600200" cy="1218960"/>
          </a:xfrm>
          <a:prstGeom prst="rect">
            <a:avLst/>
          </a:prstGeom>
          <a:solidFill>
            <a:srgbClr val="2663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indows P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30"/>
          <p:cNvSpPr/>
          <p:nvPr/>
        </p:nvSpPr>
        <p:spPr>
          <a:xfrm>
            <a:off x="4191120" y="3276720"/>
            <a:ext cx="1981080" cy="1066680"/>
          </a:xfrm>
          <a:prstGeom prst="rect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5"/>
          <p:cNvSpPr/>
          <p:nvPr/>
        </p:nvSpPr>
        <p:spPr>
          <a:xfrm>
            <a:off x="380880" y="3505320"/>
            <a:ext cx="76212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l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Oval 20"/>
          <p:cNvSpPr/>
          <p:nvPr/>
        </p:nvSpPr>
        <p:spPr>
          <a:xfrm flipV="1">
            <a:off x="1143000" y="3429000"/>
            <a:ext cx="1447920" cy="838080"/>
          </a:xfrm>
          <a:prstGeom prst="ellipse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2590920" y="3581280"/>
            <a:ext cx="609480" cy="533520"/>
          </a:xfrm>
          <a:prstGeom prst="rect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S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34"/>
          <p:cNvSpPr/>
          <p:nvPr/>
        </p:nvSpPr>
        <p:spPr>
          <a:xfrm>
            <a:off x="3200400" y="3733920"/>
            <a:ext cx="1143000" cy="228600"/>
          </a:xfrm>
          <a:prstGeom prst="rect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10BaseT Etherne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4343400" y="3505320"/>
            <a:ext cx="457200" cy="76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elne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CP/I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t 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11"/>
          <p:cNvSpPr/>
          <p:nvPr/>
        </p:nvSpPr>
        <p:spPr>
          <a:xfrm>
            <a:off x="4800600" y="3657600"/>
            <a:ext cx="685800" cy="380880"/>
          </a:xfrm>
          <a:prstGeom prst="leftRightArrow">
            <a:avLst>
              <a:gd name="adj1" fmla="val 50000"/>
              <a:gd name="adj2" fmla="val 358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23"/>
          <p:cNvSpPr/>
          <p:nvPr/>
        </p:nvSpPr>
        <p:spPr>
          <a:xfrm>
            <a:off x="5486400" y="3581280"/>
            <a:ext cx="45720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r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5943600" y="3733920"/>
            <a:ext cx="1447920" cy="228600"/>
          </a:xfrm>
          <a:prstGeom prst="rect">
            <a:avLst/>
          </a:prstGeom>
          <a:solidFill>
            <a:srgbClr val="9ce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Null Modem Cab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32"/>
          <p:cNvGrpSpPr/>
          <p:nvPr/>
        </p:nvGrpSpPr>
        <p:grpSpPr>
          <a:xfrm>
            <a:off x="7391520" y="3581280"/>
            <a:ext cx="1371600" cy="1219320"/>
            <a:chOff x="7391520" y="3581280"/>
            <a:chExt cx="1371600" cy="1219320"/>
          </a:xfrm>
        </p:grpSpPr>
        <p:sp>
          <p:nvSpPr>
            <p:cNvPr id="159" name="Rectangle 21"/>
            <p:cNvSpPr/>
            <p:nvPr/>
          </p:nvSpPr>
          <p:spPr>
            <a:xfrm>
              <a:off x="7391520" y="4114800"/>
              <a:ext cx="1371600" cy="685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ommodore 6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22"/>
            <p:cNvSpPr/>
            <p:nvPr/>
          </p:nvSpPr>
          <p:spPr>
            <a:xfrm>
              <a:off x="7391520" y="3581280"/>
              <a:ext cx="457200" cy="533520"/>
            </a:xfrm>
            <a:prstGeom prst="rect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IC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1011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" name="Text Box 35"/>
          <p:cNvSpPr/>
          <p:nvPr/>
        </p:nvSpPr>
        <p:spPr>
          <a:xfrm>
            <a:off x="1909080" y="2133720"/>
            <a:ext cx="28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elnet BBS Server Progr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6"/>
          <p:cNvSpPr/>
          <p:nvPr/>
        </p:nvSpPr>
        <p:spPr>
          <a:xfrm>
            <a:off x="3352680" y="2438280"/>
            <a:ext cx="762120" cy="838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erver Software…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ten in Visual Basic 6.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sock” Object for TCP/I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SComm Object for COM 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s as background tas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sentially a “software rout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4"/>
          <a:stretch/>
        </p:blipFill>
        <p:spPr>
          <a:xfrm>
            <a:off x="4952880" y="1600200"/>
            <a:ext cx="3976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erver Softwar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s for connections on TCP/IP Port 23 (Teln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nnection detected, “Rings” the B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tends to be a mod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arently forwards data between Telnet server and COM Port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gs Up” if Telnet Client disconn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nnects Telnet Client if BBS Hangs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est Syste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BBS 3.3 by Ed Parry (198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c IP:   209.151.141.59    Port 23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c64bbs.no-ip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ine since April 10,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urpris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BBS isn’t Y2K Compli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ILLEGAL QUANTITY ERROR IN 31527”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Modem protocol upload/download works if “calling” from a real C64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 700 callers to 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&gt;250 unique callers from all over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Next Step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time character translation (compl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CII &lt;-&gt; PETSC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s with more BBS progra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yes Modem e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for gaming?  (Modem W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dicated hardwa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Acknowledg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ff Ledger (testing, sugges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 Zimmers (BBS program archiv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hony Beckett (discuss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li Bloomquist (support, patience :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3T18:37:01Z</dcterms:created>
  <dc:creator>Leif Bloomquist</dc:creator>
  <dc:description/>
  <dc:language>en-US</dc:language>
  <cp:lastModifiedBy>Leif</cp:lastModifiedBy>
  <dcterms:modified xsi:type="dcterms:W3CDTF">2012-11-05T05:16:49Z</dcterms:modified>
  <cp:revision>111</cp:revision>
  <dc:subject/>
  <dc:title>Commodore 64 Telnet BBS Server</dc:title>
</cp:coreProperties>
</file>